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754-EF27-4094-86AA-6CA942FF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CAA-3F37-415A-8FE7-AF922C33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5FE9-BBF9-4037-BE2D-1373729F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AB5-A81C-4BA3-BA3F-F9C3EFB0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A720-1040-4A5B-A58E-434616B8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21F4-7C6F-4BE1-BF1C-C6B2A658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4CD9-1B74-48F8-B75A-533BB652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7A12-283E-4BBA-9AB1-B608F3A5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2EA2-9560-48DC-B7D1-0D068C9D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020E-3C6F-454B-9207-E1618CB9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320F-8641-4EAB-94F6-520B856A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CFC4-52D9-4FE3-8745-34227A91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5A6C-91BC-4A13-821C-A79CAB91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7C58-A223-4621-B180-08C03F40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F649-D002-421E-A739-BD7A7ABE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1378-45E6-4485-B51A-60EC97D6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A0BE-DF80-4EBC-9A0D-E833C1CB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5EC-94CB-4AC1-9D8B-675B3748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AF5-3DC2-4C5B-9C15-EE264E84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9A10-B121-40BA-AC91-73A73D50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E1D-A139-4028-A105-5E4DE7E2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159-2BA3-46A4-92E9-62801810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F29-3967-4968-921A-3718FF2A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6A3-7A66-458D-AFBD-3225F5C9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9011-3F10-4170-933C-1BF9AD73EFD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732E-80F2-4FD1-B04F-6DAAB085074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915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Estudio de la Aplicación de Modelos de Clase Latente a la Segmentación: caso Economax”</a:t>
            </a: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743200" y="51782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rancisco Mallea 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¿Qué es el análisis de clase laten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65320" y="228600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lase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at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2286000"/>
            <a:ext cx="4191120" cy="703800"/>
            <a:chOff x="3657600" y="2286000"/>
            <a:chExt cx="4191120" cy="703800"/>
          </a:xfrm>
        </p:grpSpPr>
        <p:sp>
          <p:nvSpPr>
            <p:cNvPr id="168" name=""/>
            <p:cNvSpPr/>
            <p:nvPr/>
          </p:nvSpPr>
          <p:spPr>
            <a:xfrm>
              <a:off x="4724280" y="2286000"/>
              <a:ext cx="3124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r>
                <a:rPr b="0" lang="es-ES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sificar objetos similar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514600"/>
              <a:ext cx="1371600" cy="228600"/>
            </a:xfrm>
            <a:prstGeom prst="rightArrow">
              <a:avLst>
                <a:gd name="adj1" fmla="val 50000"/>
                <a:gd name="adj2" fmla="val 1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57600" y="3962520"/>
            <a:ext cx="4248000" cy="398880"/>
            <a:chOff x="3657600" y="3962520"/>
            <a:chExt cx="4248000" cy="398880"/>
          </a:xfrm>
        </p:grpSpPr>
        <p:sp>
          <p:nvSpPr>
            <p:cNvPr id="171" name=""/>
            <p:cNvSpPr/>
            <p:nvPr/>
          </p:nvSpPr>
          <p:spPr>
            <a:xfrm>
              <a:off x="4781520" y="3962520"/>
              <a:ext cx="31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Modelo Mix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57600" y="4038480"/>
              <a:ext cx="1371600" cy="228600"/>
            </a:xfrm>
            <a:prstGeom prst="rightArrow">
              <a:avLst>
                <a:gd name="adj1" fmla="val 50000"/>
                <a:gd name="adj2" fmla="val 1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Modelo Mix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924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delos Mix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atos no se modelan por una sola distrib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219320" y="3124080"/>
                <a:ext cx="521640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segmento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observació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lase Latent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iste variable escondida (laten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rado de pertenencia a cada seg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olución al problema a través de modelos mixtos (multiples distribucio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blema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Encotrar parámet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485784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28800" y="68580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omportamiento basado en cantidad de comp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09480" y="3124080"/>
          <a:ext cx="815364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24080"/>
                    <a:ext cx="81536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Newton-Raphs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cas ite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vergencia no asegu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.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uchas Iteracione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  Conv. Len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v. asegurada por lo menos a un óptimo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uy sensible a los parametros de part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teraciones fáciles de program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220968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Algoritmo E-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bjetivo: Encontrar los parametros desconoc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tiliza la función de máximoverosimilit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babilidad individual de pertenencia segmento S puede ser calcul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05520" y="3255840"/>
                <a:ext cx="28191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observació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.M un ejempl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0 sujetos y sus compras para un determinado produ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vienen de 2 Poissons (S=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1 a 10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Tasa de comp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11 a 20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Tasa de comp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37908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381560" y="3327480"/>
                <a:ext cx="3808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375080" y="3321000"/>
                <a:ext cx="3938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781680" y="3733920"/>
                <a:ext cx="81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2514600" y="3772080"/>
            <a:ext cx="1143000" cy="342720"/>
          </a:xfrm>
          <a:prstGeom prst="rightArrow">
            <a:avLst>
              <a:gd name="adj1" fmla="val 50000"/>
              <a:gd name="adj2" fmla="val 83377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29080" y="4381560"/>
            <a:ext cx="1028520" cy="342720"/>
          </a:xfrm>
          <a:prstGeom prst="rightArrow">
            <a:avLst>
              <a:gd name="adj1" fmla="val 50000"/>
              <a:gd name="adj2" fmla="val 75026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696000" y="4305240"/>
                <a:ext cx="10270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0" y="0"/>
          <a:ext cx="9144000" cy="690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451640" y="835200"/>
            <a:ext cx="792360" cy="266508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17080" y="3357720"/>
            <a:ext cx="792000" cy="266508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tiv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udio de teorías y su evaluación en casos práct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uevas Herramientas de apoyo al Marketing: Clase Lat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portunidad: Caso Econom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1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838080" y="1982880"/>
          <a:ext cx="7772400" cy="40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2880"/>
                    <a:ext cx="777240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2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914400" y="1949400"/>
          <a:ext cx="7543800" cy="391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49400"/>
                    <a:ext cx="754380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4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14400" y="2133720"/>
          <a:ext cx="7162920" cy="372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16292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3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2101680"/>
          <a:ext cx="7543800" cy="391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01680"/>
                    <a:ext cx="754380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5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62120" y="2030400"/>
          <a:ext cx="7238880" cy="37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30400"/>
                    <a:ext cx="723888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Diferencias con el clustering clásico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 Ventaja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3114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Tiene un fundamento estadístico difer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s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FLEXIBLE (se pueden combinar distribuciones simples y complicad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Se pueden utilizar variables con diversas escalas (nominal, ordinal, continuo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dores estadísticos para la determinación de número de clus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Diferencias con el clustering clásico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D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es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v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entaja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3114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nsibilidad a la elección de los valores inic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-means o utilización de varias muestras aleato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7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estimación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méric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ualmente e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n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iv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tilización de herramientas computacionales y funciones con expresiones ana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estimadores de máxima verosimilitud (parámetros) pueden sesgarse en muestras pequeñ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goritmo EM puede llegar a óptimo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05740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7672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so Economa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bjetivos: Interrelaciones Cruzadas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Categor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egmentos de Cli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atos: Datos de Panel (P.O.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Julio del año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Proceso Caso Economa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trucción Matriz de Disimil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as 6 variables neces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DS con matr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.A para determinar seg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.L para caracterizar categorí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cusión, Implicaciones, 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Los Datos Utilizad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ductos en Cana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idades Vend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echa de Comp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í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atos de Julio del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Objetivo Gener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udiar la aplicación de modelos de clase latente como una herramienta de segmentación a un caso real (caso Economax) y su comparación con otras herramienta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Primer Análisi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edias, Varianzas, Frecuencia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ías de mayor compra (inicios y finales de semana labo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rás de mayor compra (antes de almuerzo, fin de jornada labo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nto promedio cercano a los $4.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 de Pago: Efectivo (99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lección de Número de Clust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corre el programa para varios mod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selecciona el de mejores indic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4653000"/>
            <a:ext cx="6192720" cy="165564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244520" y="4653000"/>
            <a:ext cx="62071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Outputs – Probabilidad de Membresi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6326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2971800" y="2151000"/>
            <a:ext cx="3790800" cy="3467160"/>
            <a:chOff x="2971800" y="2151000"/>
            <a:chExt cx="3790800" cy="3467160"/>
          </a:xfrm>
        </p:grpSpPr>
        <p:sp>
          <p:nvSpPr>
            <p:cNvPr id="245" name=""/>
            <p:cNvSpPr/>
            <p:nvPr/>
          </p:nvSpPr>
          <p:spPr>
            <a:xfrm>
              <a:off x="3124080" y="2151000"/>
              <a:ext cx="221004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43400" y="2417760"/>
              <a:ext cx="228600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43400" y="2684520"/>
              <a:ext cx="236232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8120" y="2989440"/>
              <a:ext cx="228600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24320" y="3218040"/>
              <a:ext cx="2438280" cy="285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71800" y="3522600"/>
              <a:ext cx="106668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71800" y="4284720"/>
              <a:ext cx="106668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4513320"/>
              <a:ext cx="914400" cy="609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95920" y="5008680"/>
              <a:ext cx="914400" cy="609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definen cuatro clu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Diarias (58,27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Semanales (29,2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Bisemanales o Mensuales (6,98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Ocasionales o de Emergencia (5,54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análisis lleva a un resultado más “fin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ferencias con caso Bosh M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Sug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alización de Microseg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sibilidad de cambio de formato a uno de mejor servicio para sus clientes (compras diari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alización de estrategias que permitan un mayor conocimiento del consumi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ondolas Evolu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f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emines Consultores (1999) 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“Sector Supermercados: ¿Cómo ha Evolucionado y hacia Dónde va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S Consulting (2002)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Building a Category Management Capabil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Recomenda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tilización de Variables Disponi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ocimiento de Teor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udio de Software y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f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894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del, Michel &amp; Kamakura, Wagner A. (2000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Market Segmentation: Conceptual and Methodological Foundations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International Series in Quantitative Marketing, Vol 8. 2ª Edi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gidson, Vermunt (2003) “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ntechnical Introduction to Latent Class Mode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llaert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Frank. (2002)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Expectation Maximization Algorithm”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munt, Jeroen K., Magidson, Jay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2002)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Latent Class Models for Clustering: A Comparison with K-Means”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anadian Journal of Marketing Research, Volume 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munt, Jeroen K., Magidson, Jay. (200?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Latent Class Cluster Analysis“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atistical Innovation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sarbo, Kamakura &amp; Wedel (2002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Applications of Multivariate Latent Variable Models in Market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osh, Musalem (2002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Segmenting Shoppers According to their Basket Composition: Implications for Cross-Category Managemen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utoriales Latent Gold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www.latentgold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6576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Supermercad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Del kiosco al megamerc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Hábitos de consumido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Tipos de Supermerc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Forma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1866960"/>
            <a:ext cx="77724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racterístic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estión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gístic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(existencias, rot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rchandising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(posición, fluj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1640" y="22050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270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tegory Manag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iles de variables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istencia de Interrel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jemplo años 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220968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l Problem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ecesidad de Diferenci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odos son cliente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o seg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gmentación Interior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upermercado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. Servilletas de Pa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05200" y="40006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4933800"/>
            <a:ext cx="838080" cy="228600"/>
          </a:xfrm>
          <a:prstGeom prst="leftRightArrow">
            <a:avLst>
              <a:gd name="adj1" fmla="val 50000"/>
              <a:gd name="adj2" fmla="val 7298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Segment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cepto Cl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volucra clientes en deci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reación de grupos de personas u organizaciones que son similares en terminos de de su respuesta al marketing mix, y por lo tanto, significativos para su planeamient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18:58:37Z</dcterms:created>
  <dc:creator>Francisco Mallea</dc:creator>
  <dc:description/>
  <dc:language>en-US</dc:language>
  <cp:lastModifiedBy>P</cp:lastModifiedBy>
  <dcterms:modified xsi:type="dcterms:W3CDTF">2004-11-04T11:36:09Z</dcterms:modified>
  <cp:revision>18</cp:revision>
  <dc:subject/>
  <dc:title>“Estudio de la Aplicación de Modelos de Clase Latente a la Segmentación: caso Economax”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0300826</vt:r8>
  </property>
  <property fmtid="{D5CDD505-2E9C-101B-9397-08002B2CF9AE}" pid="3" name="_AuthorEmail">
    <vt:lpwstr>pabustos@ing.uchile.cl</vt:lpwstr>
  </property>
  <property fmtid="{D5CDD505-2E9C-101B-9397-08002B2CF9AE}" pid="4" name="_AuthorEmailDisplayName">
    <vt:lpwstr>Pablo Bustos Serrano</vt:lpwstr>
  </property>
  <property fmtid="{D5CDD505-2E9C-101B-9397-08002B2CF9AE}" pid="5" name="_EmailSubject">
    <vt:lpwstr>presentaciones</vt:lpwstr>
  </property>
</Properties>
</file>